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0D9-07DF-452D-BC6D-D8C72B39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95C-2489-47EC-A2D9-F8E446D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BCB-0BA9-42EC-937C-636218DE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18C-7F64-40FB-962C-8FC6B6A8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9108-563B-4902-B858-00640508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9E8D-1CF5-4387-A271-E709D93C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A60-94EA-43A3-B1E3-4D35790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A41-793A-448E-BF23-F653321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157B-CCB4-4CB0-AC19-59B3A4D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7E6-4417-4563-BE1F-3EEEEB4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9A4-3031-4204-9CCD-FABDBC3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7FF-BA96-44AE-A341-A46CBA25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5EFF-2F96-4F52-8E7E-3AEEC82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596D-B698-4B4F-AECF-CB22B85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AAE-C630-4E60-A547-92A89CB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10B-BEAA-4FB0-9F16-552FB5A5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9000-ED7D-4885-BDA7-998FC084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A42-8D75-4C9D-A34B-0B6395B0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896-03C1-4D79-9B6D-A4F6E4F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838-A9D0-4698-B4A3-185CA7A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FA3-8344-4FD5-88C4-5F6A100B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8F2-9036-47E1-AFEB-D4A1208B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F8B-02FE-4A99-9E87-02D502B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B65-D134-4D19-A0E4-C69BE35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BFD-9D72-4E6C-A482-96559BCD9C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EB1-FCD9-4F64-9847-7C50ED3E12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етеора – монастыри, парящие в воздух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нил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ница 9 класс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У «Русская гимназия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нчина Елизаве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48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настоящее время монастырский комплекс Метеора включает в себя 6 действующих монастыр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очему  всегда люди стремились подняться в воздух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их манила жажда открыт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хотели пойти наперекор судьб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ремились утвердить себя в мир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кали уедин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тели уйти подальше от ми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то такое Метеор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Комплекс православных монастырей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Метеоры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в Фессалии (центральная часть Греции) – одна из главных достопримечательностей страны. Обители иноков построены на самых вершинах высоких отвесных скал. Этим и объясняется название комплекса – монастыри Метеоры, которое в переводе с греческого означает “парящие в воздухе”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ля чего и кем они создавались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1219320"/>
            <a:ext cx="4267440" cy="5410080"/>
            <a:chOff x="380880" y="1219320"/>
            <a:chExt cx="4267440" cy="54100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42674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380880" y="1219320"/>
              <a:ext cx="4267440" cy="5410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е на неприступные скалы, спасаясь от мирской суеты и набегов захватчиков, стали собираться монахи, чтобы служить Богу здесь, между небом и землей. Первым из них считается некий Варнава, построивший здесь небольшой скит Святого Духа. Постепенно скалы все больше обживались: подвижники селились в пещерах и расщелинах, проводя дни в созерцании и молитвах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чение XV–XVI веков Великий Метеор рос и креп, а на соседних скалах появлялись все новые и новые монастыри. Так образовалось уникальное «монашеское государство» со своим особым укладом жизни. Всего было построено двадцать четрые «парящих» монастыря. В каждом из них помимо монашеских келий, церквей и часовен были общая трапезная, кухня, погреб для хранения продуктов, цистерны для хранения воды (монахи собирали дождевую воду), костницы (оссуарии), а в некоторых монастырях ещё и библиотеки с богатым собранием рукописных и печатных кни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ликий Метеор был почти неприступен. Попасть в него можно было лишь по длинной лестнице, которую монахи убирали при малейшей угроз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 временем вместо лестниц стали использовать специальное подъемное устройство: посетитель садился в сетку, привязанную к длинному канату, а монахи наверху крутили колесо, поднимая гостя в монастыр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48320" y="457200"/>
            <a:ext cx="4267080" cy="6095880"/>
            <a:chOff x="4648320" y="457200"/>
            <a:chExt cx="4267080" cy="60958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648320" y="457200"/>
              <a:ext cx="426708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4648320" y="457200"/>
              <a:ext cx="4267080" cy="60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ая аск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монастыре уединение и молчание являются законом. На этих неплодородных скалистых горах, которые стали дворцами для тысячей отшельников – аскетов, научились православные монахи быть мудрыми в мыслях и покорными в самосозна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нутри их живет другой мир, свободный от насилия сил природы и не связанный со времене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кое значение несут в себе эти памятники культуры в настоящее время?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1988 году монастыри были включены в список объектов всемирного наследия. Метеорские скалы — геологический феномен. Они достигают в высоту 600 метров над уровнем моря и являются редким геологическим явлением. Они образовались более 60 миллионов лет назад и являлись каменистым дном доисторического моря, находившегося на месте равнины.[1] В результате воздействия воды, ветра и перепадов температур получились массивные, как бы зависшие в воздухе каменные столб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удожественн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600200"/>
            <a:ext cx="4038480" cy="4648320"/>
            <a:chOff x="457200" y="1600200"/>
            <a:chExt cx="4038480" cy="46483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457200" y="1600200"/>
              <a:ext cx="403848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громное наследие представляют собой и сами монастыри, украшенные древними фресками в стиле Критской иконописной школы, имеющие ризницы и богатые библиоте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настырь Тераморф Метеора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VI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01-12-31T21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